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8F0-37CC-42B2-B8C9-A0D89A90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91D-416B-479D-8D89-0D507EF1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A62F-EC36-4807-87AF-64E9A971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EA5-62D7-4D50-BA26-3958D0B4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A9F-1A63-405C-9192-58205C22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C3A5-BD5D-411B-B81D-633FB02F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A56-5D07-4FCB-8775-86C0DF8B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57E8-ACD6-4A98-B06C-0538B372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0AE-3A47-4CB4-89C7-4F877DA4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880-F9E5-4A81-80ED-83BEAD72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96A-1B4A-4110-9EBA-122CCE68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B72-915A-42B2-B103-2B9C33F8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43A427-9CFB-45EA-8E61-5B46B24242B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одовой отчет об исполнении бюджета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Алексеевского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сельсовета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а </a:t>
            </a:r>
            <a:br>
              <a:rPr sz="4900"/>
            </a:br>
            <a:r>
              <a:rPr b="0" lang="ru-RU" sz="4900" spc="-1" strike="noStrike">
                <a:solidFill>
                  <a:srgbClr val="ff0000"/>
                </a:solidFill>
                <a:latin typeface="Microsoft YaHei"/>
              </a:rPr>
              <a:t>20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22 г.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 rot="16200000">
            <a:off x="1475640" y="1917000"/>
            <a:ext cx="1727280" cy="345600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16200000">
            <a:off x="6084000" y="1989720"/>
            <a:ext cx="1800000" cy="338292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Arial"/>
              </a:rPr>
              <a:t>Б</a:t>
            </a:r>
            <a:r>
              <a:rPr b="0" lang="ru-RU" sz="6000" spc="-1" strike="noStrike">
                <a:solidFill>
                  <a:srgbClr val="a50021"/>
                </a:solidFill>
                <a:latin typeface="Georgia"/>
              </a:rPr>
              <a:t>юджет основывается н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Алексе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«Алексеев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Алексеевского сельсовета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Курской области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за 202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08000" y="2297160"/>
          <a:ext cx="5619600" cy="4560840"/>
        </p:xfrm>
        <a:graphic>
          <a:graphicData uri="http://schemas.openxmlformats.org/drawingml/2006/table">
            <a:tbl>
              <a:tblPr/>
              <a:tblGrid>
                <a:gridCol w="2670120"/>
                <a:gridCol w="2949480"/>
              </a:tblGrid>
              <a:tr h="10080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1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2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5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98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/про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ицит местного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8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Алексеевского сельсовета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з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а </a:t>
            </a:r>
            <a:r>
              <a:rPr b="1" i="1" lang="ru-RU" sz="3000" spc="-1" strike="noStrike">
                <a:solidFill>
                  <a:srgbClr val="c61e0c"/>
                </a:solidFill>
                <a:latin typeface="Microsoft YaHei"/>
              </a:rPr>
              <a:t>20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22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60" name="AutoShape 4"/>
            <p:cNvCxnSpPr>
              <a:stCxn id="61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2" name="AutoShape 5"/>
            <p:cNvCxnSpPr>
              <a:stCxn id="63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4" name="AutoShape 6"/>
            <p:cNvCxnSpPr>
              <a:stCxn id="65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66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67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5029,4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д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411,8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00,3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517,3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Алексеевского сельсовета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за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2022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-324000" y="2421000"/>
          <a:ext cx="9106200" cy="501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00" y="2421000"/>
                    <a:ext cx="910620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Расходы бюджет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Алексеевского сельсовета Касторенского района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Курской области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з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2022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год (тыс.руб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00280"/>
          <a:ext cx="8137440" cy="5970600"/>
        </p:xfrm>
        <a:graphic>
          <a:graphicData uri="http://schemas.openxmlformats.org/drawingml/2006/table">
            <a:tbl>
              <a:tblPr/>
              <a:tblGrid>
                <a:gridCol w="3889440"/>
                <a:gridCol w="4248000"/>
              </a:tblGrid>
              <a:tr h="5763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505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эконом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61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713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89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Физическая культура и спо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198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Алексеевского сельсовета Касторенского района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Курской области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за 2022 год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2205000"/>
          <a:ext cx="8459640" cy="6278760"/>
        </p:xfrm>
        <a:graphic>
          <a:graphicData uri="http://schemas.openxmlformats.org/drawingml/2006/table">
            <a:tbl>
              <a:tblPr/>
              <a:tblGrid>
                <a:gridCol w="6603840"/>
                <a:gridCol w="1855800"/>
              </a:tblGrid>
              <a:tr h="303120">
                <a:tc rowSpan="2"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585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Защита населения и территорий от чрезвычайных ситуаций, обеспечение пожарной безопасности и безопасности людей на водных объектах  в  Алексеевском сельсовете Касторенского  района Курской области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8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Развитие транспортной системы, обеспечение перевозки пассажиров и безопасности дорожного движения в  Алексеевском сельсовете Касторенского  района Курской области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4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Управление муниципальным имуществом и земельными ресурсами в  Алексеевском сельсовете Касторенского  района Курской области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Энергосбережение и повышение энергетической эффективности в Алексеевском сельсовете Касторенского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Обеспечение доступным и комфортным жильем и коммунальными услугами граждан в Алексеевском сельсовете Касторенского 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9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Охрана окружающей среды в  Алексеевском сельсовете Касторенского 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Развитие культуры  в  Алексеевском сельсовете Касторенского 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71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Социальная поддержка граждан в  Алексеевском сельсовете Касторенского 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8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ания Алексеевского сельсовета Касторенского района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476360" y="2205000"/>
          <a:ext cx="6132600" cy="384012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22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 го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505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26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70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609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TOSHIBA</cp:lastModifiedBy>
  <dcterms:modified xsi:type="dcterms:W3CDTF">2024-03-07T05:21:26Z</dcterms:modified>
  <cp:revision>86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