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CF0-EB9E-4E3E-8BA7-8E1BAF16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E52-57FE-4818-AA42-5A420323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9C7-6D24-4B34-8B32-BC16312D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F45-740D-4570-80F0-9193F365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63E-5468-44C4-AD05-26E386B4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C88-6965-41EC-B2E9-A00194EF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6F0-B5ED-459C-AD68-34CA9804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355-C11C-4844-9D7E-1B6FDF39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16D-E17D-44A6-BFE9-1029DEE7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B83-15FC-4539-81AF-A07B524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87E-F3CA-4399-ADB0-751422F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221-5E67-4A0A-95AF-4A52FE8F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CB5CBC-CC25-40B9-B29D-2C6FD8C9552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довой отчет об исполнении бюджета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лексеевского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сельсовета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YaHei"/>
              </a:rPr>
              <a:t>20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21г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юджет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Алексе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Алексе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лексеевского сельсовета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за 202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8000" y="2297160"/>
          <a:ext cx="5619600" cy="4560840"/>
        </p:xfrm>
        <a:graphic>
          <a:graphicData uri="http://schemas.openxmlformats.org/drawingml/2006/table">
            <a:tbl>
              <a:tblPr/>
              <a:tblGrid>
                <a:gridCol w="2670120"/>
                <a:gridCol w="2949480"/>
              </a:tblGrid>
              <a:tr h="10080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4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31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/пр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5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Алексе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21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5467,6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272,9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21,5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3073,2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лексеевского сельсовет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21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324000" y="2421000"/>
          <a:ext cx="910620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42100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Алексеевского сельсовета 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21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195640"/>
          <a:ext cx="8231040" cy="74372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507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603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9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65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0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29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7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Физическая культура и спо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231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Алексеевского сельсовета 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за 2021 год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7380360" cy="832500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499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муниципальной служб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. Муниципальная программа «Развитие транспортной системы, обеспечение перевозки пассажиров в муниципальном образовании «Егорьевский сельсовет» Касторенского района Курской области и безопасности дорожного дви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9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72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Профилактика правонаруше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0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Муниципальная программа «Энергосбережение и повышение энергетической эффективности М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Социальная поддержка граждан в  МО «Алексеевский сельсовет» Касторенского  района Курской обла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ния Алексеевского сельсовета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76360" y="2205000"/>
          <a:ext cx="61326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603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515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3-02-22T04:02:31Z</dcterms:modified>
  <cp:revision>84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