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728-92D6-4F26-B6A3-ADCB234B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C648-484D-427A-B1C4-47E06AE0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720B-D80A-4606-87A3-D95A342E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B4F-7A0E-4E7C-A4D2-6F4FAFC4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D66-EE23-499D-A07A-BC6FC1ED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55E-0D0A-4877-8A07-07E21E6E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F2A-BB95-48A2-8150-48C12F4B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236-D56C-4E95-ADF3-9AF1F575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B32-8F2E-4097-9F26-CCCC8369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FB94-47A0-40BD-AB50-6FF4118E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A03-F8B3-4814-B652-88D12B82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036-0CF6-4080-AE1E-B8696B52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21AAD9-C4DD-462B-A2A8-9F94F2F1549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000"/>
            </a:br>
            <a:r>
              <a:rPr b="0" lang="ru-RU" sz="4500" spc="-1" strike="noStrike">
                <a:solidFill>
                  <a:srgbClr val="ff0000"/>
                </a:solidFill>
                <a:latin typeface="Arial"/>
              </a:rPr>
              <a:t>Алексеевского сельсовета</a:t>
            </a:r>
            <a:r>
              <a:rPr b="0" lang="ru-RU" sz="4500" spc="-1" strike="noStrike">
                <a:solidFill>
                  <a:srgbClr val="ff0000"/>
                </a:solidFill>
                <a:latin typeface="Georgia"/>
              </a:rPr>
              <a:t> Касторенского района Курской области на </a:t>
            </a:r>
            <a:br>
              <a:rPr sz="4500"/>
            </a:br>
            <a:r>
              <a:rPr b="0" lang="ru-RU" sz="4500" spc="-1" strike="noStrike">
                <a:solidFill>
                  <a:srgbClr val="ff0000"/>
                </a:solidFill>
                <a:latin typeface="Microsoft YaHei"/>
              </a:rPr>
              <a:t>20</a:t>
            </a:r>
            <a:r>
              <a:rPr b="0" lang="ru-RU" sz="45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ru-RU" sz="4500" spc="-1" strike="noStrike">
                <a:solidFill>
                  <a:srgbClr val="ff0000"/>
                </a:solidFill>
                <a:latin typeface="Georgia"/>
              </a:rPr>
              <a:t> год</a:t>
            </a:r>
            <a:r>
              <a:rPr b="0" lang="ru-RU" sz="4500" spc="-1" strike="noStrike">
                <a:solidFill>
                  <a:srgbClr val="ff0000"/>
                </a:solidFill>
                <a:latin typeface="Arial"/>
              </a:rPr>
              <a:t> и плановый период 2022-2023 г.г.</a:t>
            </a:r>
            <a:r>
              <a:rPr b="0" lang="ru-RU" sz="45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 rot="16200000">
            <a:off x="1475640" y="1917000"/>
            <a:ext cx="1727280" cy="345600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16200000">
            <a:off x="6084000" y="1989720"/>
            <a:ext cx="1800000" cy="338292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Алексе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«Алексеев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Алексеевского сельсовета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Курской области на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2021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год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 и плановый период 2022-2023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2349360"/>
          <a:ext cx="8353440" cy="4561200"/>
        </p:xfrm>
        <a:graphic>
          <a:graphicData uri="http://schemas.openxmlformats.org/drawingml/2006/table">
            <a:tbl>
              <a:tblPr/>
              <a:tblGrid>
                <a:gridCol w="2670120"/>
                <a:gridCol w="1567080"/>
                <a:gridCol w="1560240"/>
                <a:gridCol w="2556000"/>
              </a:tblGrid>
              <a:tr h="100836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7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0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9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1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6,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7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0,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5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71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0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9,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фицит местного бюдж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</a:t>
            </a:r>
            <a:r>
              <a:rPr b="1" i="1" lang="ru-RU" sz="3000" spc="-1" strike="noStrike">
                <a:solidFill>
                  <a:srgbClr val="c61e0c"/>
                </a:solidFill>
                <a:latin typeface="Microsoft YaHei"/>
              </a:rPr>
              <a:t>Алексеевского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сельсовета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на </a:t>
            </a:r>
            <a:r>
              <a:rPr b="1" i="1" lang="ru-RU" sz="3000" spc="-1" strike="noStrike">
                <a:solidFill>
                  <a:srgbClr val="c61e0c"/>
                </a:solidFill>
                <a:latin typeface="Microsoft YaHei"/>
              </a:rPr>
              <a:t>20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21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60" name="AutoShape 4"/>
            <p:cNvCxnSpPr>
              <a:stCxn id="61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2" name="AutoShape 5"/>
            <p:cNvCxnSpPr>
              <a:stCxn id="63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4" name="AutoShape 6"/>
            <p:cNvCxnSpPr>
              <a:stCxn id="65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66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67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3171,8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1816,3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90,2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1265,3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Алексеевского сельсовета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на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2021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38160" y="2492280"/>
          <a:ext cx="9105840" cy="501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160" y="2492280"/>
                    <a:ext cx="910584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Расходы бюджета Алексе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евского сельсовета Касторенского района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Курской области на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2021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год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 и плановый период 2022-2023 г.г.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(тыс.руб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2060640"/>
          <a:ext cx="8231040" cy="67514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2689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23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472,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549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468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9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0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3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ациональная эконом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Куль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518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00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00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Социальная полит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Физическая культура и спор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171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420,2 в т.ч. условно утвержденные расходы 58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399,0 в т.ч. условно утвержденные расходы 115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Алексеев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ск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ого сельсовета Касторенского района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Курской области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на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2021 год и плановый период 2022-2023 г.г.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2205000"/>
          <a:ext cx="8964720" cy="7240680"/>
        </p:xfrm>
        <a:graphic>
          <a:graphicData uri="http://schemas.openxmlformats.org/drawingml/2006/table">
            <a:tbl>
              <a:tblPr/>
              <a:tblGrid>
                <a:gridCol w="6575400"/>
                <a:gridCol w="773280"/>
                <a:gridCol w="772920"/>
                <a:gridCol w="843120"/>
              </a:tblGrid>
              <a:tr h="485640">
                <a:tc rowSpan="2"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61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72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72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1. Муниципальная программа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Развитие муниципальной службы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2. Муниципальная программа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Профилактика правонарушений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3. Муниципальная программа 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 в муниципальном образовании «Алексеевский сельсовет» Касторенского района Курской области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"Социальная поддержка граждан в МО «Алексеевский сельсовет" Касторенского района Курской области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. Муниципальная программа «Управление муниципальным имуществом и земельными ресурсам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6. Муниципальная программа «Обеспечение доступным и комфортным жильем и коммунальными услугами граждан в МО «Алексеевский сельсовет» Касторенского района Курской област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8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. Муниципальная программа 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Развитие культуры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51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7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7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8.Муниципальная программа «Энергосбережение и повышение энергетической эффективности в МО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9. Муниципальная программа «Повышение эффективности работы с молодежью, организация отдыха и оздоровления детей, молодежи, развитие физической культуры и спорт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«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Алексеевский сельсовет» Касторенского района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773360"/>
          <a:ext cx="8231040" cy="508464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  <a:gridCol w="1079280"/>
                <a:gridCol w="1019160"/>
              </a:tblGrid>
              <a:tr h="13287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Показател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21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 го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22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23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щегосударственные вопросы,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472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549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468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77,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77,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77,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18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18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18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Microsoft YaHei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7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7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7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Другие общегосударственные вопрос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29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006,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24,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68360" y="3068640"/>
          <a:ext cx="4979880" cy="576360"/>
        </p:xfrm>
        <a:graphic>
          <a:graphicData uri="http://schemas.openxmlformats.org/drawingml/2006/table">
            <a:tbl>
              <a:tblPr/>
              <a:tblGrid>
                <a:gridCol w="497988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TOSHIBA</cp:lastModifiedBy>
  <dcterms:modified xsi:type="dcterms:W3CDTF">2022-02-27T19:25:04Z</dcterms:modified>
  <cp:revision>83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